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9C11-F5B0-4DAD-B6B4-F90EDE694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CB36-9500-46A4-9636-5892FC3FD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BB97-C85F-429A-9BED-FBBE07BF8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611B-3546-45A5-B8DC-F5F14668A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2748B-E9C9-40FE-98BB-F96F7F0FB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D038F-5E28-499E-A855-80098B8A8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7BC97-25E6-4081-AD07-BB96328F4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48EE4-5B93-4608-A2B2-449D591FD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41376-2297-440E-AE7B-DF937DD19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18247-0FEA-42EB-B5A8-5325B8F4D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F7908-6D3C-4AEE-8520-4659BFE8A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15C0-A3A6-4D13-B2C5-8EDE64618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4357E-9E28-46AB-8360-838B4D7E5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C3535-474B-4D9D-8BBC-DAD6386E5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5CDB0-287C-4E31-8591-0AC1C78AA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7EEC2-376B-4FDD-83AF-F9644D22C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FDEEC-FC17-4A26-A190-9085EB5FF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84DC0D-7936-460F-9FC1-9DC3EB569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7E7319-1565-4269-9F09-F81BBBBFE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4382D1-9D29-4A3A-90D7-03B91FCFE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CBF9AF-8271-42DF-8EB4-11ED71917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A03BE2-1103-424E-AF74-0DABEFAB9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7B83-EBF8-4594-9D5A-F3A92167E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EDB72D-EA90-4B90-B26A-707C95047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724B0E-591D-4CCF-9600-E627105D5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337A1D-E2F7-44ED-8240-9669366B8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5AE6DB-6BA2-47EC-986B-A47857EAF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BB03A9-4A37-43F3-B7B9-3DE87C1AD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E1593A-B68B-443E-89F2-38118B8CB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FF7D13-6681-48DD-9FFF-A44A20FCA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BE4166-B9C8-45F8-B842-A91588AF0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D1E89C-0C8C-46DB-A0E0-13E22851D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DD901E-0B56-4D8F-A851-C42F736D7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DD2B-9D4B-4E65-9D2B-9A98FF6D4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5E60FC-4E68-4318-99CE-030642DCC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EF48D6-4514-4DC4-8BBC-9098D7134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8DDFF9-E17B-4F04-841E-C147057F4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252B0E-C2BE-4D7F-850A-24B01E95A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7AC2E3-B005-467B-98B0-42195EC51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B5D711-3FB7-4258-B82D-F5EE67260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D2EF15-B1C4-4F76-B254-81D235CED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868FC0-E380-4799-B8AA-CDA9A566B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136382-A003-4FCF-8EC2-B8B4859DF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83CE7C-738D-4C97-A928-E69CC1DD7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DA9E-EF77-445E-9E2F-257A215A5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286358-6EBA-4234-B413-130545A44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EF6CDE-A7C2-466D-B5EA-14F75133B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0D05BB-4A14-4E57-A956-B837254C6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E020B3-70DE-4E53-AA3D-D30FF49FF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DA97DB-76A8-470F-BE54-252A56840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AE07FC-F4E3-40F4-A646-DA61C1554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E24BF6-9BC5-4E90-8CCA-302F291FA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1B1C87-6D9D-48C8-8759-43D0C16F5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240524-9C20-424D-BDEB-8F290ACE3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528933-251D-44E3-BE55-31E864221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5BB7-1D78-4ACC-B89C-F1CA70352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8F3420-5C8C-4A01-99AE-E09527ABE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395A-56C0-446E-B7B8-48735288D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19B9-DA74-4C02-89C7-702F417B9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270E-AA8D-4610-946C-D6A7403E5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entury School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entury Schoolbook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entury Schoolbook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entury Schoolbook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EA513-4051-4A71-99E4-99CD23B4F1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Rectangle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entury School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entury Schoolbook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entury Schoolbook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entury Schoolbook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D4052-B43D-42A5-B4A2-30203B4F5D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Rectangle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Rectangle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entury School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entury Schoolbook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entury Schoolbook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entury Schoolbook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632DB-CB66-43E9-804A-493393B5E8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entury School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entury Schoolbook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entury Schoolbook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entury Schoolbook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76E5C-CB1E-4E5F-944B-8CBEEFF698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entury School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entury Schoolbook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entury Schoolbook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entury Schoolbook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C00A9-E325-48C0-9A39-BD22E61794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Combing your hair takes about 2 ______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How long will each activity take?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Mark your estimated time on your response cards.</a:t>
            </a:r>
            <a:endParaRPr b="0" lang="en-US" sz="3600" spc="-1" strike="noStrike">
              <a:solidFill>
                <a:srgbClr val="696464"/>
              </a:solidFill>
              <a:latin typeface="Century Schoolbook"/>
            </a:endParaRPr>
          </a:p>
        </p:txBody>
      </p:sp>
      <p:pic>
        <p:nvPicPr>
          <p:cNvPr id="230" name="Picture 4" descr="C:\Documents and Settings\kcs user\Local Settings\Temporary Internet Files\Content.IE5\4X4X6ZGH\MCj03975200000[1].wmf"/>
          <p:cNvPicPr/>
          <p:nvPr/>
        </p:nvPicPr>
        <p:blipFill>
          <a:blip r:embed="rId1"/>
          <a:stretch/>
        </p:blipFill>
        <p:spPr>
          <a:xfrm>
            <a:off x="3962520" y="4038480"/>
            <a:ext cx="1522440" cy="181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Opening a gift…</a:t>
            </a:r>
            <a:endParaRPr b="0" lang="en-US" sz="4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Takes about 1 _________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257" name="Picture 2" descr="C:\Documents and Settings\kcs user\Local Settings\Temporary Internet Files\Content.IE5\4X4X6ZGH\MCj04237860000[1].wmf"/>
          <p:cNvPicPr/>
          <p:nvPr/>
        </p:nvPicPr>
        <p:blipFill>
          <a:blip r:embed="rId1"/>
          <a:stretch/>
        </p:blipFill>
        <p:spPr>
          <a:xfrm>
            <a:off x="3276720" y="2209680"/>
            <a:ext cx="2774880" cy="35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Baking a cake…</a:t>
            </a:r>
            <a:endParaRPr b="0" lang="en-US" sz="4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Takes about 1 ________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233" name="Picture 2" descr="C:\Documents and Settings\kcs user\Local Settings\Temporary Internet Files\Content.IE5\CRN3A4TD\MCj02956530000[1].wmf"/>
          <p:cNvPicPr/>
          <p:nvPr/>
        </p:nvPicPr>
        <p:blipFill>
          <a:blip r:embed="rId1"/>
          <a:stretch/>
        </p:blipFill>
        <p:spPr>
          <a:xfrm>
            <a:off x="2590920" y="2286000"/>
            <a:ext cx="3558960" cy="36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Tying shoes…</a:t>
            </a:r>
            <a:endParaRPr b="0" lang="en-US" sz="4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Takes about 3 __________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236" name="Picture 2" descr="C:\Documents and Settings\kcs user\Local Settings\Temporary Internet Files\Content.IE5\4X4X6ZGH\MCBD09454_0000[1].wmf"/>
          <p:cNvPicPr/>
          <p:nvPr/>
        </p:nvPicPr>
        <p:blipFill>
          <a:blip r:embed="rId1"/>
          <a:stretch/>
        </p:blipFill>
        <p:spPr>
          <a:xfrm>
            <a:off x="2895480" y="2514600"/>
            <a:ext cx="2751120" cy="32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Watching a movie…</a:t>
            </a:r>
            <a:endParaRPr b="0" lang="en-US" sz="4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Takes about 2 _________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239" name="Picture 2" descr="C:\Documents and Settings\kcs user\Local Settings\Temporary Internet Files\Content.IE5\EZ6VM5MZ\MCj02321510000[1].wmf"/>
          <p:cNvPicPr/>
          <p:nvPr/>
        </p:nvPicPr>
        <p:blipFill>
          <a:blip r:embed="rId1"/>
          <a:stretch/>
        </p:blipFill>
        <p:spPr>
          <a:xfrm>
            <a:off x="2590920" y="2590920"/>
            <a:ext cx="3682800" cy="27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Drawing a picture…</a:t>
            </a:r>
            <a:endParaRPr b="0" lang="en-US" sz="4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Takes about 5 __________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242" name="Picture 2" descr="C:\Documents and Settings\kcs user\Local Settings\Temporary Internet Files\Content.IE5\4X4X6ZGH\MCj03982730000[1].wmf"/>
          <p:cNvPicPr/>
          <p:nvPr/>
        </p:nvPicPr>
        <p:blipFill>
          <a:blip r:embed="rId1"/>
          <a:stretch/>
        </p:blipFill>
        <p:spPr>
          <a:xfrm>
            <a:off x="2590920" y="2209680"/>
            <a:ext cx="3709800" cy="38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Playing at the beach…</a:t>
            </a:r>
            <a:endParaRPr b="0" lang="en-US" sz="4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Takes about 4 _________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__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245" name="Picture 2" descr="C:\Documents and Settings\kcs user\Local Settings\Temporary Internet Files\Content.IE5\EZ6VM5MZ\MCj04247420000[1].wmf"/>
          <p:cNvPicPr/>
          <p:nvPr/>
        </p:nvPicPr>
        <p:blipFill>
          <a:blip r:embed="rId1"/>
          <a:stretch/>
        </p:blipFill>
        <p:spPr>
          <a:xfrm>
            <a:off x="2286000" y="1981080"/>
            <a:ext cx="3517920" cy="38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Doing a puzzle…</a:t>
            </a:r>
            <a:endParaRPr b="0" lang="en-US" sz="4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Takes about 3 ___________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248" name="Picture 4" descr="C:\Documents and Settings\kcs user\Local Settings\Temporary Internet Files\Content.IE5\BB9VZ9OW\MCj02329100000[1].wmf"/>
          <p:cNvPicPr/>
          <p:nvPr/>
        </p:nvPicPr>
        <p:blipFill>
          <a:blip r:embed="rId1"/>
          <a:stretch/>
        </p:blipFill>
        <p:spPr>
          <a:xfrm>
            <a:off x="2971800" y="2209680"/>
            <a:ext cx="3330720" cy="37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Brushing your teeth…</a:t>
            </a:r>
            <a:endParaRPr b="0" lang="en-US" sz="4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Takes about 2 __________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251" name="Picture 2" descr="C:\Documents and Settings\kcs user\Local Settings\Temporary Internet Files\Content.IE5\CRN3A4TD\MCj04240180000[1].wmf"/>
          <p:cNvPicPr/>
          <p:nvPr/>
        </p:nvPicPr>
        <p:blipFill>
          <a:blip r:embed="rId1"/>
          <a:stretch/>
        </p:blipFill>
        <p:spPr>
          <a:xfrm>
            <a:off x="3657600" y="2209680"/>
            <a:ext cx="2225520" cy="423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Going on a trip…</a:t>
            </a:r>
            <a:endParaRPr b="0" lang="en-US" sz="4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Takes about 7 _________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254" name="Picture 3" descr="C:\Documents and Settings\kcs user\Local Settings\Temporary Internet Files\Content.IE5\BB9VZ9OW\MCj04273290000[1].wmf"/>
          <p:cNvPicPr/>
          <p:nvPr/>
        </p:nvPicPr>
        <p:blipFill>
          <a:blip r:embed="rId1"/>
          <a:stretch/>
        </p:blipFill>
        <p:spPr>
          <a:xfrm>
            <a:off x="3048120" y="2362320"/>
            <a:ext cx="382104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4T19:56:10Z</dcterms:created>
  <dc:creator>Shady Brook</dc:creator>
  <dc:description/>
  <dc:language>en-US</dc:language>
  <cp:lastModifiedBy>Shady Brook</cp:lastModifiedBy>
  <dcterms:modified xsi:type="dcterms:W3CDTF">2008-11-24T20:30:06Z</dcterms:modified>
  <cp:revision>5</cp:revision>
  <dc:subject/>
  <dc:title>How long will each activity take? Mark your estimated time on your respons cards.</dc:title>
</cp:coreProperties>
</file>